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8129588" cy="6116638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0360" y="-5040"/>
            <a:ext cx="30322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-1440" y="8817120"/>
            <a:ext cx="303192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3"/>
          </p:nvPr>
        </p:nvSpPr>
        <p:spPr>
          <a:xfrm>
            <a:off x="396036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E3B8EED-2E4E-432F-8DC2-FAD486A837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858760" y="88390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2D61D14-7EA1-441F-AFEA-D0CB43E95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1016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6C1917E-DD73-4831-85CF-F7B6A857001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322A62B-DED3-4CB4-B9AE-B0E1AB0BF0B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the team’s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284626-71A0-4740-B691-864B1D20060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key project milestones such as the dates and content of releases or the dates for completing key phases or gates. Compare these to management’s schedule goa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1BD082-02E5-41AD-8735-729DC2FADDB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the key aspects of any alternate plan such as changes in scope, features, or resour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753D80-FFBC-4934-B5DC-957765CC18D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32BB0C-8F68-46EB-90EF-FB28E1E3DE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5DFEF90-4C01-4A6B-8151-EC316276C5D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5D0CAA3-41FD-4EAE-B830-82FA6516C9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C61D2F-5BFF-4550-9BAE-AB9F068CBC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efly review the structure of the launch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D1D6F6-213C-465A-A8CA-086944E2D16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be the key activities of the first seven launch meetings, and how these steps work together to build a detailed plan for the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phasize how the planning steps work together to produce a plan that the team has confidence in and is committed 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96B8E1-F3EA-46A0-9626-E8E6E5F1618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978200" y="606600"/>
            <a:ext cx="281772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C451F8B-D6C6-445C-88F0-1989FF44D12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B7D6A8-2EAD-4E4C-972F-09951900CE3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management’s stated and implied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54B2626-AEBD-4813-9394-D055CDB405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5596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364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92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5596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7364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419040"/>
            <a:ext cx="685188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596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364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792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596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7364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200" y="419040"/>
            <a:ext cx="685188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71320" y="5869080"/>
            <a:ext cx="3935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Copyright 2013 by Carnegie Mellon University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September 2013</a:t>
            </a:r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4800600" y="5854680"/>
            <a:ext cx="2806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Launch Workshop Meeting 9 Presentation - </a:t>
            </a:r>
            <a:fld id="{C98BF472-DB47-47C2-B1BC-62937B6E224F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0" y="4680"/>
            <a:ext cx="8116920" cy="610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762120" y="5859360"/>
            <a:ext cx="7122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Copyright 2013 Carnegie Mellon University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September 2013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 Launch Workshop Meeting 9 Presentation - </a:t>
            </a:r>
            <a:fld id="{02CA8908-6E88-4F90-8067-5A440A119350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912960" y="609480"/>
            <a:ext cx="7215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43" name="Picture 18" descr="logoblackbkgrdphotoshop"/>
          <p:cNvPicPr/>
          <p:nvPr/>
        </p:nvPicPr>
        <p:blipFill>
          <a:blip r:embed="rId2"/>
          <a:srcRect l="781" t="7423" r="1039" b="5419"/>
          <a:stretch/>
        </p:blipFill>
        <p:spPr>
          <a:xfrm>
            <a:off x="182520" y="155520"/>
            <a:ext cx="292104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creativecommons.org/licenses/by/4.0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51"/>
          <p:cNvSpPr/>
          <p:nvPr/>
        </p:nvSpPr>
        <p:spPr>
          <a:xfrm>
            <a:off x="922320" y="2876400"/>
            <a:ext cx="65023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91" name="Rectangle 2052"/>
          <p:cNvSpPr/>
          <p:nvPr/>
        </p:nvSpPr>
        <p:spPr>
          <a:xfrm>
            <a:off x="923760" y="914400"/>
            <a:ext cx="7167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PROJECT NAME</a:t>
            </a:r>
            <a:endParaRPr b="1" lang="en-US" sz="4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Dat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am Leader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am Members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roject Mileston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Planned Schedu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4144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Schedul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3231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entury Schoolbook"/>
              </a:rPr>
              <a:t>Alternate Plan and Key Milestones</a:t>
            </a:r>
            <a:endParaRPr b="0" lang="en-US" sz="3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roject Risk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251000"/>
          <a:ext cx="6858000" cy="698400"/>
        </p:xfrm>
        <a:graphic>
          <a:graphicData uri="http://schemas.openxmlformats.org/drawingml/2006/table">
            <a:tbl>
              <a:tblPr/>
              <a:tblGrid>
                <a:gridCol w="3962520"/>
                <a:gridCol w="762120"/>
                <a:gridCol w="1143000"/>
                <a:gridCol w="99036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and mitigation ac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lihoo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iefing objective: to secure management commitment to the plan developed by the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dat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siz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mileston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tailed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ed plan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 (form SUM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and schedule plan (forms TASK and SCH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plan (form SUMQ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assessment (form ITL or IRT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120" y="36360"/>
            <a:ext cx="364032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61440" y="0"/>
            <a:ext cx="568080" cy="571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-515520"/>
            <a:ext cx="812952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478440" tIns="0" bIns="564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96" name="Picture 4" descr="Creative Commons Licen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73960" y="5167440"/>
            <a:ext cx="744480" cy="26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6760" y="965160"/>
            <a:ext cx="7397640" cy="447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5200" y="855720"/>
            <a:ext cx="76723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launch workshop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 goals and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ernate team goals and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ri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 flipH="1">
            <a:off x="5181120" y="313524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Launch Process Meeting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4448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.  Establish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duct and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4448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.  Assign Role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d Defin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am Goal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30364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.  Build Top-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own and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xt-Phas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30364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.  Develop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Quality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3640" y="3919680"/>
            <a:ext cx="128736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.  Build Bottom-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p an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solidate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135576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298116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2981160" y="364968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2168640" y="2084040"/>
            <a:ext cx="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21686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92904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7.  Conduc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92904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8.  Prepare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riefing an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aunch Repor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5638680" y="2754360"/>
            <a:ext cx="128772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M.  Launch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460692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248520" y="244944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8" name="Line 22"/>
          <p:cNvSpPr/>
          <p:nvPr/>
        </p:nvSpPr>
        <p:spPr>
          <a:xfrm flipV="1">
            <a:off x="3794040" y="2084040"/>
            <a:ext cx="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7940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2981160" y="50086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2981160" y="480492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5622840" y="1611360"/>
            <a:ext cx="128772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9.  Hol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5622840" y="3897360"/>
            <a:ext cx="128772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w Teams: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SP Proces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4" name="Line 29"/>
          <p:cNvSpPr/>
          <p:nvPr/>
        </p:nvSpPr>
        <p:spPr>
          <a:xfrm flipV="1">
            <a:off x="5487840" y="2084040"/>
            <a:ext cx="0" cy="10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54878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744480" y="3919680"/>
            <a:ext cx="128736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.  Produc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355760" y="364968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8" name="Line 33"/>
          <p:cNvSpPr/>
          <p:nvPr/>
        </p:nvSpPr>
        <p:spPr>
          <a:xfrm flipV="1">
            <a:off x="1355760" y="480492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1355760" y="50086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3231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lanning Work Accomplishe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219320"/>
          <a:ext cx="7086600" cy="4467240"/>
        </p:xfrm>
        <a:graphic>
          <a:graphicData uri="http://schemas.openxmlformats.org/drawingml/2006/table">
            <a:tbl>
              <a:tblPr/>
              <a:tblGrid>
                <a:gridCol w="609840"/>
                <a:gridCol w="1295280"/>
                <a:gridCol w="5181480"/>
              </a:tblGrid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tg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Objectiv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cuss the project goals with management and marketing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s and Rol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and document the team's goal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ocate team roles among team member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Strateg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a system conceptual design, and, if needed, a fix list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termine the development strategy and products to be produced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the development process to be used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 size estimates and the overall team plan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 the quality plan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ed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ocate work to team member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bottom-up next-phase plans for each team member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a balanced next-phase plan for the team and each team member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Risk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ntify and evaluate project risk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risk assessment checkpoints and responsibilitie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pose mitigation actions for near-term, high-impact risk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Launch Produ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roduc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ed team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-member role assign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development strate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ilored pro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of needed process el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ies support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 down overall plan with key milestones and a detailed next-phase team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able quality pla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ttom-up balanced individual and team plans for the next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 risk assessment and mitigation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ole Assign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066680"/>
          <a:ext cx="6858000" cy="4676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 Manage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stomer Interfac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ing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anagement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d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4144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ied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quested Product Feat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46Z</dcterms:created>
  <dc:creator>Jim Over</dc:creator>
  <dc:description/>
  <cp:keywords/>
  <dc:language>en-US</dc:language>
  <cp:lastModifiedBy>wrn_loc_adm</cp:lastModifiedBy>
  <cp:lastPrinted>1999-10-08T01:22:02Z</cp:lastPrinted>
  <dcterms:modified xsi:type="dcterms:W3CDTF">2018-09-05T13:59:14Z</dcterms:modified>
  <cp:revision>53</cp:revision>
  <dc:subject/>
  <dc:title>No Slide Title</dc:title>
</cp:coreProperties>
</file>